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CBBC-0593-46A8-B648-8B9B3B3E7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Darwin image: http://en.wikipedia.org/wiki/Charles_Da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er Darwin image: http://en.wikipedia.org/wiki/Portraits_of_Charles_Da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On_the_Origin_of_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source.org/wiki/Page:Origin_of_Species_1859_facsimile.djvu/5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alapagosexpeditions.com/islands/darwin-finches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1DDF-6630-4E69-8D94-5C8C01B0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D590-E405-47D1-92AC-ADF0C383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F0C2-92E4-4755-9908-20F9165E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6F31-77F2-406E-B171-15AD74DB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9572-2C1E-4538-B137-89E98D5C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ACF-A80E-4542-867D-2560B06A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DABD-4C41-4D87-B00F-056DBE84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E0C3-9263-41B7-88D6-BF98CAC8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213B-44F8-4DE2-9FCA-C19E3E8E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EF85-0183-44C2-9B11-166CB915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30F4-D439-4D8F-90ED-683C7581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0EF9-0AEF-4191-A829-928812B5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EC1C-D0A4-4FCB-8AC9-9EE742230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7X33g6eoOc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the Origin Of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 the Theo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di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in response to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of antibiotic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Darw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38560" y="1981080"/>
            <a:ext cx="3410280" cy="4496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54000" y="1981080"/>
            <a:ext cx="2890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” (201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the trail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u7X33g6eo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ighlights the conflict that Darwin must have felt when developing his theory of natural selection (published in 185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59120" y="609480"/>
            <a:ext cx="3424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generation, populations produce more offspring than there are ad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s do not continue to grow in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and many other resources are lim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nferenc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: Individuals within a population compete for re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viduals within all populations v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y variations are herita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Inference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Some individuals will inherit characteristics that give them a better chance of surviving &amp; reproduc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y of Natur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time the popula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n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beneficial traits become more common, generation after gen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9920" y="1600200"/>
            <a:ext cx="4554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vival of the Fittes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by Herbert Spencer to describe natural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ness” is ultimately determined by reproductive success, not just surv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ap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haracteristics that make them well suited to their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1415880"/>
            <a:ext cx="77724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8T12:55:13Z</dcterms:created>
  <dc:creator>rubina khan</dc:creator>
  <dc:description/>
  <dc:language>en-US</dc:language>
  <cp:lastModifiedBy>rubina khan</cp:lastModifiedBy>
  <dcterms:modified xsi:type="dcterms:W3CDTF">2015-05-26T14:37:30Z</dcterms:modified>
  <cp:revision>47</cp:revision>
  <dc:subject/>
  <dc:title>Evidence for Evolution</dc:title>
</cp:coreProperties>
</file>